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428FD-766B-4C99-AC8A-E30A61B11320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osthodontic treatment extraoral and intraoral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osthodontic 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osthodontic treatment lateral cephalometric trac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osthodontic treatment panoramic radio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extraoral and intraoral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lateral cephalogram and trac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panoramic radio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extraoral and intraoral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lateral cephalogram and superimposed pretreatment and posttreatment tracing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panoramic radio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lsevier.com/termsandcondition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260360"/>
            <a:ext cx="864072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Orthodontic-prosthetic treatment of an adult with a severe Class III malocclusion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Hiroshi Maruo, Ivan Toshio Maruo, Armando Yukio Saga, Elisa Souza Camargo, Odilon Guariza Filho, Orlando Motohiro Tanaka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 138, Issue 6, Pages 820-828 (December 2010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ajodo.2009.03.05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60520" y="762120"/>
            <a:ext cx="6272280" cy="4984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2360" y="1374840"/>
            <a:ext cx="6350040" cy="37605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41520" y="762120"/>
            <a:ext cx="4311720" cy="498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2360" y="1711440"/>
            <a:ext cx="6350040" cy="3085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65200" y="762120"/>
            <a:ext cx="6264360" cy="498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22360" y="1380960"/>
            <a:ext cx="6350040" cy="374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22360" y="1487520"/>
            <a:ext cx="6350040" cy="3535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22360" y="1711440"/>
            <a:ext cx="6350040" cy="308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60520" y="762120"/>
            <a:ext cx="6272280" cy="4984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2360" y="1380960"/>
            <a:ext cx="6350040" cy="3746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2360" y="1749600"/>
            <a:ext cx="6350040" cy="3008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22360" y="2179800"/>
            <a:ext cx="6350040" cy="2149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0 138, 820-828DOI: (10.1016/j.ajodo.2009.03.052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0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